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8706-D200-433D-8DAA-28EBA807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s in red for new since May 2006.  Be sure to demo all of the things in RED when you login later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C0A-8DF4-4DC9-9329-BFEA984B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1CC-B7E9-4425-A512-253F4901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44C-D1CD-4B08-B77B-C8489837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359-0613-46B0-B757-5CBAB73D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0B3-9ACC-47BD-8FE5-550FB09C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AAD-D0F4-469D-B4EC-187246DD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2C6-9E40-436A-A75B-19CFA807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10A-01B5-4789-A8CF-C967891F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47E-18D9-4A89-A490-397749FE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E32-3214-4883-805A-7DA52BB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4818-B154-4B82-89B8-77DB826B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571-A301-4F18-9ACE-7D054EA6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665-4966-4FF5-8B16-1722C30B6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Creating an IDEAL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ideal.az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link on the bottom right-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tivat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click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the directions on the next screen and complete the information required once you choose standard or guest ac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unable to create an account contact the help desk at 480- 965-9411.  They will be happy to help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8520" y="4572000"/>
            <a:ext cx="2743200" cy="190512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7400" y="3048120"/>
            <a:ext cx="1600200" cy="91440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1:32:19Z</dcterms:created>
  <dc:creator>lumma000</dc:creator>
  <dc:description/>
  <dc:language>en-US</dc:language>
  <cp:lastModifiedBy>lumma000</cp:lastModifiedBy>
  <dcterms:modified xsi:type="dcterms:W3CDTF">2008-03-28T21:33:13Z</dcterms:modified>
  <cp:revision>2</cp:revision>
  <dc:subject/>
  <dc:title>Directions for Creating an IDEAL Account</dc:title>
</cp:coreProperties>
</file>